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B05-AABF-45AE-8C4A-307C0A19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7AD-EC21-4EDE-BF91-2E2988B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EE-61D5-4421-A3D3-E259DB9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09E-F66A-452C-8F4A-4840AEE1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00C-A86D-4FFD-8C07-7E2DFD78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D2A-CFF9-46E8-B13D-355837B9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023-E66C-46BF-8760-DB17816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AE6-CDD2-4173-803C-19D828B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F6E1-3D30-4182-8819-9B86BFFC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568-039C-4843-9A05-0697666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FB0E-A816-4FDB-A32E-A757DC7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B5B-07E8-47E3-9DC0-55F5E055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D386-9667-40DB-88B2-FF94600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4EA-EA63-4E58-973B-BF851BC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C2D8-CEDB-425C-93D8-DE5D5F8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8D96-B0D2-41C9-8239-178967D9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381E-C391-4154-A081-1B19711F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170-DAE8-4D99-81F8-259692D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80D-25EA-4F6F-8372-18DCAAA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BA9-59C2-4B5E-B586-1D44AF92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A65-F5C8-4F9B-B33C-AEFA7B3B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BE0-EA7D-4CC9-AAFB-3969E0E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4BB-2525-4601-A81E-C928086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672-A1C6-455F-BAD6-88CE928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A7A-7B02-44AC-A86A-7AB6AFF92C7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8FE-0FFD-4C1D-9D7B-30F89DB507C8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 3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frica South of the Sahar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r. O’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avann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angrov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armatta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857840" cy="2857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35719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conomics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IL is 90% of incom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ostly Farmers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ubsistence Farmer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aca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2960" y="1676520"/>
            <a:ext cx="4361040" cy="3454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314880"/>
            <a:ext cx="2381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13.8 million – most in Afric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00 ethnic group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50% Muslim 40% Christian 10% Loca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mpound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5524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agos – port cit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buja* - planned cit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441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istory/Gov’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ok Peop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400’s Slave trade / Coloniali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ritish early 1900’s to 1960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thnic Divisi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Ibo Civil War - 2 million dead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till Fighting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232416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17:48Z</dcterms:created>
  <dc:creator> John Doe</dc:creator>
  <dc:description/>
  <dc:language>en-US</dc:language>
  <cp:lastModifiedBy> John Doe</cp:lastModifiedBy>
  <dcterms:modified xsi:type="dcterms:W3CDTF">2009-09-09T13:43:55Z</dcterms:modified>
  <cp:revision>1</cp:revision>
  <dc:subject/>
  <dc:title>Unit 3  Africa South of the Sahara</dc:title>
</cp:coreProperties>
</file>